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24382413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72840" y="355320"/>
            <a:ext cx="2305044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2840" y="8774640"/>
            <a:ext cx="1104876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34560" y="448272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284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334560" y="8774640"/>
            <a:ext cx="53917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0856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144280" y="448272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7284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40856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144280" y="8774640"/>
            <a:ext cx="3557520" cy="3919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2869920"/>
            <a:ext cx="23050440" cy="4559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7416360"/>
            <a:ext cx="23050440" cy="181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74520" y="4482720"/>
            <a:ext cx="1104912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84000"/>
          </a:bodyPr>
          <a:p>
            <a:pPr marL="34128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1" marL="71460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2" marL="11415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3" marL="15681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4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5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6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2840" y="4482720"/>
            <a:ext cx="2305044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84000"/>
          </a:bodyPr>
          <a:p>
            <a:pPr marL="34128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1" marL="71460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2" marL="11415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3" marL="15681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4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5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6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2840" y="4482720"/>
            <a:ext cx="2305044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84000"/>
          </a:bodyPr>
          <a:p>
            <a:pPr marL="34128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1" marL="71460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2" marL="11415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3" marL="15681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4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5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6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84000"/>
          </a:bodyPr>
          <a:p>
            <a:pPr marL="34128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1" marL="71460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2" marL="11415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3" marL="15681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4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5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6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672840" y="355680"/>
            <a:ext cx="23050440" cy="12979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marL="406440" indent="-406440">
              <a:lnSpc>
                <a:spcPct val="12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6400" spc="-1" strike="noStrike">
              <a:solidFill>
                <a:srgbClr val="404140"/>
              </a:solidFill>
              <a:latin typeface="Gill Sans Light"/>
            </a:endParaRPr>
          </a:p>
          <a:p>
            <a:pPr lvl="1" marL="851040" indent="-406440">
              <a:lnSpc>
                <a:spcPct val="12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6400" spc="-1" strike="noStrike">
              <a:solidFill>
                <a:srgbClr val="404140"/>
              </a:solidFill>
              <a:latin typeface="Gill Sans Light"/>
            </a:endParaRPr>
          </a:p>
          <a:p>
            <a:pPr lvl="2" marL="1359000" indent="-406440">
              <a:lnSpc>
                <a:spcPct val="12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6400" spc="-1" strike="noStrike">
              <a:solidFill>
                <a:srgbClr val="404140"/>
              </a:solidFill>
              <a:latin typeface="Gill Sans Light"/>
            </a:endParaRPr>
          </a:p>
          <a:p>
            <a:pPr lvl="3" marL="1866960" indent="-406440">
              <a:lnSpc>
                <a:spcPct val="12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6400" spc="-1" strike="noStrike">
              <a:solidFill>
                <a:srgbClr val="404140"/>
              </a:solidFill>
              <a:latin typeface="Gill Sans Light"/>
            </a:endParaRPr>
          </a:p>
          <a:p>
            <a:pPr lvl="4" marL="2374920" indent="-406440">
              <a:lnSpc>
                <a:spcPct val="12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6400" spc="-1" strike="noStrike">
              <a:solidFill>
                <a:srgbClr val="404140"/>
              </a:solidFill>
              <a:latin typeface="Gill Sans Light"/>
            </a:endParaRPr>
          </a:p>
          <a:p>
            <a:pPr lvl="5" marL="2374920" indent="-406440">
              <a:lnSpc>
                <a:spcPct val="12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6400" spc="-1" strike="noStrike">
              <a:solidFill>
                <a:srgbClr val="404140"/>
              </a:solidFill>
              <a:latin typeface="Gill Sans Light"/>
            </a:endParaRPr>
          </a:p>
          <a:p>
            <a:pPr lvl="6" marL="2374920" indent="-406440">
              <a:lnSpc>
                <a:spcPct val="12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64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84000"/>
          </a:bodyPr>
          <a:p>
            <a:pPr marL="34128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1" marL="71460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2" marL="11415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3" marL="15681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4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5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6" marL="1994760" indent="-341280"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942920"/>
            <a:ext cx="11048760" cy="4927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2840" y="6857640"/>
            <a:ext cx="11048760" cy="181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1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2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3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4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2840" y="1942920"/>
            <a:ext cx="11048760" cy="4927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2840" y="6857640"/>
            <a:ext cx="11048760" cy="181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2840" y="4533840"/>
            <a:ext cx="23050440" cy="4648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2840" y="10426680"/>
            <a:ext cx="23050440" cy="1803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2840" y="10426680"/>
            <a:ext cx="23050440" cy="1803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2840" y="9613800"/>
            <a:ext cx="23050440" cy="1765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2840" y="11366280"/>
            <a:ext cx="23050440" cy="1701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2840" y="9613800"/>
            <a:ext cx="23050440" cy="1765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2840" y="11366280"/>
            <a:ext cx="23050440" cy="1701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72840" y="2869920"/>
            <a:ext cx="23050440" cy="4559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CONCURSO EDA 2010-2011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72840" y="7416360"/>
            <a:ext cx="23050440" cy="181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arlos Escriche Izquierdo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píxeles y patches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96000"/>
          </a:bodyPr>
          <a:p>
            <a:pPr marL="389880" indent="-38988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Lectura de píxeles en modo Binario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89880" indent="-38988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onversión de formato char a entero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89880" indent="-38988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Cálculo de patches de manera sencilla. 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89880" indent="-38988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140"/>
                </a:solidFill>
                <a:latin typeface="Gill Sans Light"/>
              </a:rPr>
              <a:t>Para cada patch se recorren w * w píxeles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Patches repetidos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96000"/>
          </a:bodyPr>
          <a:p>
            <a:pPr marL="389880" indent="-38988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abla hash para calcular los comunes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89880" indent="-38988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 no está insertado, se inserta y se inicializa la cuenta a 1. 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89880" indent="-38988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Si ya está insertado se aumenta la cuenta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89880" indent="-38988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Implementación con Hash Map de STL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Distancia entre imágenes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93000"/>
          </a:bodyPr>
          <a:p>
            <a:pPr marL="377640" indent="-37764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Tabla hash sin colisiones: No existen cubetas con varios elementos de la misma imagen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77640" indent="-37764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En cada cubeta hay un puntero a std vector para guardar los elementos comunes entre imágenes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77640" indent="-37764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Cuando se inserta el primer elemento de una cubeta se crea el std vector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77640" indent="0">
              <a:lnSpc>
                <a:spcPct val="100000"/>
              </a:lnSpc>
              <a:spcBef>
                <a:spcPts val="5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Distancia entre imágenes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87000"/>
          </a:bodyPr>
          <a:p>
            <a:pPr marL="353520" indent="-35352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Bucle general que recorre todas las imágenes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53520" indent="-35352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Para cada patch de la imagen se recorren todos los elementos que haya en la cubeta correspondiente(comunes) y se calcula la distancia restándola a la mayor distancia posible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353520" indent="-35352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Al acabar el bucle general, las distancias ya están calculadas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GRAFO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72840" y="44701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Grafo representado con una lista de adyacencia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406440" indent="-40644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Inserción de las k-menores distancias basado en el algoritmo de selección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72840" y="355320"/>
            <a:ext cx="23050440" cy="342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414141"/>
                </a:solidFill>
                <a:latin typeface="Gill Sans Light"/>
              </a:rPr>
              <a:t>DIJKSTRA</a:t>
            </a:r>
            <a:endParaRPr b="0" lang="en-US" sz="10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72840" y="4482720"/>
            <a:ext cx="11048760" cy="821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Algoritmo de Dijkstra con cola de prioridad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  <a:p>
            <a:pPr marL="406440" indent="-406440">
              <a:lnSpc>
                <a:spcPct val="100000"/>
              </a:lnSpc>
              <a:spcBef>
                <a:spcPts val="53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14141"/>
                </a:solidFill>
                <a:latin typeface="Gill Sans Light"/>
              </a:rPr>
              <a:t>Implementado con la Priority queue de STL.</a:t>
            </a:r>
            <a:endParaRPr b="0" lang="en-US" sz="5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